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54160" y="325440"/>
            <a:ext cx="6351480" cy="833292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598760" y="496800"/>
            <a:ext cx="359244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690560" y="555480"/>
            <a:ext cx="35528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690560" y="568440"/>
            <a:ext cx="3551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92720" y="581040"/>
            <a:ext cx="339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21040" y="920880"/>
            <a:ext cx="28922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21040" y="933480"/>
            <a:ext cx="2890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22120" y="946080"/>
            <a:ext cx="274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9520" y="5297400"/>
            <a:ext cx="429120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680" y="5356080"/>
            <a:ext cx="52354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680" y="5367240"/>
            <a:ext cx="6825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364000"/>
            <a:ext cx="4773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7320" y="5721480"/>
            <a:ext cx="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0920" y="6458040"/>
            <a:ext cx="1746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90200" y="64674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19360" y="6723000"/>
            <a:ext cx="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73480" y="6997680"/>
            <a:ext cx="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57480" y="7543800"/>
            <a:ext cx="276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30480" y="5791320"/>
            <a:ext cx="5828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11520" y="5791320"/>
            <a:ext cx="5558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82720" y="6066000"/>
            <a:ext cx="352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28960" y="5973840"/>
            <a:ext cx="458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 ARMY SOLDIER SUPPORT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82760" y="6553080"/>
            <a:ext cx="42541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RESERVE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ACTION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98840" y="70167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1600" y="8359920"/>
            <a:ext cx="18288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43600" y="8359920"/>
            <a:ext cx="14493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92920" y="8369280"/>
            <a:ext cx="124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EP 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019240" y="1954080"/>
          <a:ext cx="2819520" cy="33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9240" y="1954080"/>
                    <a:ext cx="2819520" cy="33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676880" y="7680240"/>
            <a:ext cx="34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WORK BOOK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490560" y="8240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4640" y="2295360"/>
            <a:ext cx="6048720" cy="455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15720" y="395280"/>
            <a:ext cx="26964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UDENT INSTR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498680"/>
            <a:ext cx="54925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   Use this answer booklet to record your answers for the appropriate docu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     When complete, turn this booklet in along with your AIMS grading she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14240" y="83930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09840" y="84186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61960" y="831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9960" y="2295360"/>
            <a:ext cx="6058080" cy="455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09480" y="8229600"/>
            <a:ext cx="5791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9960" y="2286000"/>
            <a:ext cx="60580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84582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37920" y="8393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2290680"/>
            <a:ext cx="6067440" cy="45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337920" y="8305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0600" y="2324160"/>
            <a:ext cx="60768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414240" y="8229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9960" y="2328840"/>
            <a:ext cx="605808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8840880"/>
            <a:ext cx="158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37920" y="8240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9960" y="2290680"/>
            <a:ext cx="6058080" cy="45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337920" y="8393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0600" y="2286000"/>
            <a:ext cx="60768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3T13:52:10Z</dcterms:created>
  <dc:creator>Soldier Support Institute</dc:creator>
  <dc:description/>
  <dc:language>en-US</dc:language>
  <cp:lastModifiedBy>Administrator</cp:lastModifiedBy>
  <cp:lastPrinted>2001-12-20T13:04:59Z</cp:lastPrinted>
  <dcterms:modified xsi:type="dcterms:W3CDTF">2004-09-16T18:17:01Z</dcterms:modified>
  <cp:revision>22</cp:revision>
  <dc:subject/>
  <dc:title>No Slide Title</dc:title>
</cp:coreProperties>
</file>